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projctor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CC8-F078-4714-8C48-0BD3E67B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A54-DFF4-4C0D-8D73-89B4AF0C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C20-8270-439F-8857-217A3EA9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703-0B66-4418-9D2E-B20AD9B8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55F-B7D0-4B9E-90BD-A6D0765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6B4-FE6B-4206-A2CC-183E22A0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570-C12C-49A0-8F87-5E0E0A49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386-F09C-43AE-B7F0-E5A6D314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9A7-8F9F-40C5-94A7-404E3221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BDE-B3E7-44DE-9BAB-BB03E29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ED9-DA29-4779-8350-EE378ACD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FB9-4373-4B97-BF91-6493F9E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0FC-FEA8-4642-8E4A-066C6EBE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fsea.org/Images/help.gif" TargetMode="External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neseo.edu/~cec/kite.gif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iversidetravel.com/images/hawaii/running.gif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veryideainc.com/images/worm.gif" TargetMode="External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Primer Dolch Word 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ulie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4495680"/>
            <a:ext cx="2582640" cy="2000520"/>
            <a:chOff x="3276720" y="4495680"/>
            <a:chExt cx="2582640" cy="20005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276720" y="4495680"/>
              <a:ext cx="25826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62160" y="5029200"/>
              <a:ext cx="114264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267080"/>
            <a:ext cx="304812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my ki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267080"/>
            <a:ext cx="185112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t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runn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411480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worm i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343400"/>
            <a:ext cx="216072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t the silly girl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5495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 snowma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52680" y="4343400"/>
            <a:ext cx="259092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ime to g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86372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54:41Z</dcterms:created>
  <dc:creator>jctc</dc:creator>
  <dc:description/>
  <dc:language>en-US</dc:language>
  <cp:lastModifiedBy>jctc</cp:lastModifiedBy>
  <dcterms:modified xsi:type="dcterms:W3CDTF">2001-09-14T17:59:05Z</dcterms:modified>
  <cp:revision>2</cp:revision>
  <dc:subject/>
  <dc:title>Pre-Primer Dolch Word List Part 3</dc:title>
</cp:coreProperties>
</file>